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F1A-918A-4D40-A69B-0CFD968C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956-4533-4D0D-BFD1-2B702E77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E22-1BC4-4813-8379-882BCBD9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1CE-8097-44BD-A2A2-65C74341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C8C8A-CAC9-4C8B-A75C-6560C36F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96ABF-C8E0-4305-8ED9-F5D47077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ADFF5-9B73-4F36-B315-F62C4A43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4912C-FF3B-4CD8-8DF8-9A2B7A86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D43B5-3B49-4603-866D-F5113157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D5EAE-ED29-433F-8448-7103E929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4AC65-3BA3-4C12-A528-DCAD11E3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7A1-352E-4DAC-8464-FCE59C0B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72CC8-EFD1-48CC-9E3A-2C65C94C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8D776-31CC-4D36-AE5C-9DC8BC64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5C05D-3418-4227-8290-7A856AC3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4A007-976D-42F0-90E9-1EC53CCC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31752-68C9-4261-B715-E730B2E9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7B0-1088-4487-8381-EB030451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38E-86A3-4C87-92A0-F2EAFBB3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496-8340-4E1A-A3E7-99AE6E63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880-3778-4771-8B25-60C2EBCF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E97-9CEE-4A96-B5C9-07802F18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87F-2040-4542-93EA-24C46EF6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495-E56A-47DD-9641-7F737E13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07E7-248A-4A70-94A3-F64210531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B843-444A-4332-898B-1A70C80C5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209320" y="5029200"/>
            <a:ext cx="5715000" cy="838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rker Felt"/>
              </a:rPr>
              <a:t>Written by: Ella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440" y="533520"/>
            <a:ext cx="8763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6147" dir="2700000" blurRad="0" rotWithShape="0">
                    <a:srgbClr val="875b0d"/>
                  </a:outerShdw>
                </a:effectLst>
                <a:latin typeface="Arial Black"/>
              </a:rPr>
              <a:t>The Adventures Of A Marke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6147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5800" y="228600"/>
            <a:ext cx="764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The news spre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You instantly become fam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You earn enough money to get a ink refill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67360" y="5410080"/>
            <a:ext cx="117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arker Felt"/>
              </a:rPr>
              <a:t>Yea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70360" y="6278400"/>
            <a:ext cx="18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420840" y="304920"/>
            <a:ext cx="96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You wash into a river and float downstrea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You get bored to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60320" y="5715000"/>
            <a:ext cx="18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162560" cy="5371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-11880" y="228600"/>
            <a:ext cx="91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You instantly fall in love with a fish and marr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8600" y="99072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Down in the deep blue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60480" y="1676520"/>
            <a:ext cx="308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Cha-Cha-Ch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70480" y="493092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1680" y="76212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arker Felt"/>
              </a:rPr>
              <a:t>You are a marker.  You can’t find your marker buddies.  You are bored.  Your ink is running out.  Your cap falls off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30640" y="4191120"/>
            <a:ext cx="4483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Marker Felt"/>
              </a:rPr>
              <a:t>Wait to be drawn wi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1320" y="5410080"/>
            <a:ext cx="6921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Marker Felt"/>
              </a:rPr>
              <a:t>You roll off the table onto the flo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626760" y="380880"/>
            <a:ext cx="103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A kid comes and finds your lid off.  He puts it back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9000" y="5943600"/>
            <a:ext cx="7944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Marker Felt"/>
              </a:rPr>
              <a:t>He takes it off again and draws with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64080" y="5029200"/>
            <a:ext cx="5415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Marker Felt"/>
              </a:rPr>
              <a:t>He puts you in your box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52480" y="457200"/>
            <a:ext cx="563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You are rolling out of cont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You roll into a dr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           </a:t>
            </a: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You see two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1160" y="4373640"/>
            <a:ext cx="3312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Marker Felt"/>
              </a:rPr>
              <a:t>You roll into a pi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15600" y="5059440"/>
            <a:ext cx="6176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Marker Felt"/>
              </a:rPr>
              <a:t>You wait to be washed into the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67920" y="30492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He draws a picture of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5257800"/>
            <a:ext cx="3048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Marker Felt"/>
              </a:rPr>
              <a:t>He throws it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39720" y="5410080"/>
            <a:ext cx="4865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Marker Felt"/>
              </a:rPr>
              <a:t>He puts it in the newspaper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Marker Fel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9120" y="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You look around and see your frien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41320" y="609480"/>
            <a:ext cx="33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You are happ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64280" y="533412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50160" y="380880"/>
            <a:ext cx="510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There was a sea sna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You got bitt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You ran out of in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70000" y="5133960"/>
            <a:ext cx="18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00200" y="990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It gets really d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2320" y="1496880"/>
            <a:ext cx="56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You wait ,and wait, and wai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but it doesn’t r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960" y="5715000"/>
            <a:ext cx="9324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Marker Felt"/>
              </a:rPr>
              <a:t>Lightning strikes and rain comes pouring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56960" y="5105520"/>
            <a:ext cx="4999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Marker Felt"/>
              </a:rPr>
              <a:t>You hitch a ride on a f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>
            <a:lum bright="-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-343800" y="380880"/>
            <a:ext cx="96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He puts your cap back on and you become bo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9480" y="5715000"/>
            <a:ext cx="27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Beginning :(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8:57:15Z</dcterms:created>
  <dc:creator>Bruce Gordon</dc:creator>
  <dc:description/>
  <dc:language>en-US</dc:language>
  <cp:lastModifiedBy>West Shore  School District</cp:lastModifiedBy>
  <dcterms:modified xsi:type="dcterms:W3CDTF">2009-04-02T19:32:28Z</dcterms:modified>
  <cp:revision>8</cp:revision>
  <dc:subject/>
  <dc:title>PowerPoint Presentation</dc:title>
</cp:coreProperties>
</file>